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68A-6E48-467A-B7B7-0711F85F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4D7-E5F1-4A6A-B388-04191831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DE2-423E-4792-A237-BBBC31F0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E93-CABD-4654-8552-BA95DAE5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A1B-7672-4514-A79A-B46C0333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D1A-7907-4FE2-AB9A-400133F3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843-0A0D-49B4-8BBB-F9155B35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948-CC00-442F-8A8A-3C8BDCB8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68D-3576-44BB-AEC9-C8604109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957-D614-4A31-94A3-BDA89EFC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503-6133-49CE-BB0D-BF871E8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04E-2213-460A-BCA1-8091AA3F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7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48B-E970-4AD9-AA24-CBABC085E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finite 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finite Articles: English- T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0" t="52446" r="65559" b="17335"/>
          <a:stretch/>
        </p:blipFill>
        <p:spPr>
          <a:xfrm>
            <a:off x="228600" y="1752480"/>
            <a:ext cx="8077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arison 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like chocolate and Fre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’aime LE chocolat et LE frança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U CAN’T LEAVE OFF THE LE/LA/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35359" r="63682" b="14135"/>
          <a:stretch/>
        </p:blipFill>
        <p:spPr>
          <a:xfrm>
            <a:off x="914400" y="465120"/>
            <a:ext cx="73548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56003" r="63890" b="11112"/>
          <a:stretch/>
        </p:blipFill>
        <p:spPr>
          <a:xfrm>
            <a:off x="174600" y="762120"/>
            <a:ext cx="8969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9:45:30Z</dcterms:created>
  <dc:creator>Robbie</dc:creator>
  <dc:description/>
  <dc:language>en-US</dc:language>
  <cp:lastModifiedBy>Robbie</cp:lastModifiedBy>
  <dcterms:modified xsi:type="dcterms:W3CDTF">2012-09-23T19:56:35Z</dcterms:modified>
  <cp:revision>3</cp:revision>
  <dc:subject/>
  <dc:title>Definite Articles</dc:title>
</cp:coreProperties>
</file>